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0AC-0F7B-4FA9-B404-DFB87281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DE7-7883-4C29-A9EB-F1307C1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FAF-D121-4B7E-BAFA-2AB14D1D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0D7-783D-422F-965B-0CD1DE1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106E-BD6C-46EF-B406-0B9C038C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3D6C-D205-40AF-B305-E637C35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4B94-5FEF-4C38-BA89-BDF80E48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C83-C0B4-425F-AA10-3F1B53FD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9F7-3604-44EF-806A-4BC701F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22A5-F840-4898-B007-44755CFD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B1E3-418F-4377-AE97-8E82B5F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F8B-4FF6-46F1-9F35-BFDC349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F6F-42AC-40F0-B2A2-0DC6424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B8F1-D289-45A8-B052-0472F2E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D63D-28A1-48C6-8C9F-5C9D8E01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8036-68D4-446D-9176-757581A6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A1C5-0AA8-4925-A9E6-AC8D45A9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8E2-C88F-4E40-8C89-47C4DDC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AA4-346B-4DA3-A469-B28729C2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427-DFF1-4ABF-BA5F-7D6B514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392-0F1D-4467-8FF3-9278FBB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580-337F-4182-A38D-7A346EC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1BD-F598-4D1C-AD9C-94D56CF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A41-0E20-4A3A-A2F1-F4784B1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99A-B995-4672-9168-99D3774B69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EC9-619C-4AB0-AA7B-B2E557236B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bobank.nl/" TargetMode="External"/><Relationship Id="rId3" Type="http://schemas.openxmlformats.org/officeDocument/2006/relationships/hyperlink" Target="http://www.kvk.nl/" TargetMode="External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58440" y="249228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WELKO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Levert 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tructu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andboek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el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ndersteu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amer van Koophand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lastingdien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 natuurlijk 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Bedrijfs Begeleid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Financieel Advis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it zijn </a:t>
            </a: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Vrijwilligers 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De Ta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0" y="1704960"/>
            <a:ext cx="4410360" cy="41133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5987880"/>
            <a:ext cx="1114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3622680"/>
            <a:ext cx="717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9560" y="3600360"/>
            <a:ext cx="689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5480" y="1193760"/>
            <a:ext cx="1082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155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162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171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174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85880" y="1227240"/>
            <a:ext cx="6484680" cy="4993200"/>
            <a:chOff x="1685880" y="1227240"/>
            <a:chExt cx="6484680" cy="4993200"/>
          </a:xfrm>
        </p:grpSpPr>
        <p:sp>
          <p:nvSpPr>
            <p:cNvPr id="177" name=""/>
            <p:cNvSpPr/>
            <p:nvPr/>
          </p:nvSpPr>
          <p:spPr>
            <a:xfrm>
              <a:off x="4415760" y="6022080"/>
              <a:ext cx="92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(controle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00240" y="3657600"/>
              <a:ext cx="67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5880" y="3635640"/>
              <a:ext cx="64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0360" y="1227240"/>
              <a:ext cx="104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6480" y="3747600"/>
              <a:ext cx="50173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27600" y="1496520"/>
              <a:ext cx="0" cy="450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718480" cy="4161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focusgebieden van een Ondernem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nova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deeën/Klant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Produ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oduceren/Bestu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Optimaliseren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oördineren/Control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ompeten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timulator/Mentor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9efee"/>
                </a:solidFill>
                <a:latin typeface="Garamond"/>
              </a:rPr>
              <a:t>Hoe start je een bedrijf 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Gewoon doen 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63720" y="3446640"/>
            <a:ext cx="138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I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207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214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223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226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347920" y="3746520"/>
            <a:ext cx="501660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27600" y="1496880"/>
            <a:ext cx="0" cy="4500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6560"/>
            <a:ext cx="7993080" cy="415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0b296"/>
                </a:solidFill>
                <a:latin typeface="Garamond"/>
              </a:rPr>
              <a:t>Ondernemen en Ontwikke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2725560" y="5838840"/>
            <a:ext cx="4192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Behee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9000" y="1073160"/>
            <a:ext cx="321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Flexibi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47040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740680" y="1487880"/>
            <a:ext cx="4176720" cy="458172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4581720"/>
              <a:gd name="textAreaBottom" fmla="*/ 4582080 h 4581720"/>
            </a:gdLst>
            <a:ahLst/>
            <a:rect l="textAreaLeft" t="textAreaTop" r="textAreaRight" b="textAreaBottom"/>
            <a:pathLst>
              <a:path w="21600" h="21600">
                <a:moveTo>
                  <a:pt x="1970" y="15295"/>
                </a:moveTo>
                <a:arcTo wR="-9908" hR="-9908" stAng="9181270" swAng="-19684143"/>
                <a:lnTo>
                  <a:pt x="21560" y="11732"/>
                </a:lnTo>
                <a:arcTo wR="10800" hR="10800" stAng="297127" swAng="19684143"/>
                <a:lnTo>
                  <a:pt x="22831" y="4676"/>
                </a:lnTo>
                <a:lnTo>
                  <a:pt x="21454" y="8906"/>
                </a:lnTo>
                <a:lnTo>
                  <a:pt x="17224" y="7530"/>
                </a:lnTo>
                <a:close/>
              </a:path>
            </a:pathLst>
          </a:custGeom>
          <a:solidFill>
            <a:srgbClr val="50b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De Clusius College </a:t>
            </a:r>
            <a:br>
              <a:rPr sz="4800"/>
            </a:b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College Company Startochten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an 9.00 uur tot circa 11.30 uur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0" y="3792600"/>
            <a:ext cx="158760" cy="439560"/>
          </a:xfrm>
          <a:prstGeom prst="rect">
            <a:avLst/>
          </a:pr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3235320"/>
            <a:ext cx="1051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7320" y="1751040"/>
            <a:ext cx="8203320" cy="3832560"/>
            <a:chOff x="697320" y="1751040"/>
            <a:chExt cx="8203320" cy="3832560"/>
          </a:xfrm>
        </p:grpSpPr>
        <p:sp>
          <p:nvSpPr>
            <p:cNvPr id="239" name=""/>
            <p:cNvSpPr/>
            <p:nvPr/>
          </p:nvSpPr>
          <p:spPr>
            <a:xfrm>
              <a:off x="6901200" y="175104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Leid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200" y="494388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2440" y="1774440"/>
              <a:ext cx="148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320" y="5331600"/>
              <a:ext cx="134172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ereikt resulta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8080" y="5272560"/>
              <a:ext cx="1448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ouwt de toekom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00" y="2138400"/>
              <a:ext cx="1393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reëert zelfstur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8800" y="2114640"/>
              <a:ext cx="13780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Inspireert mens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2280" y="4920480"/>
              <a:ext cx="208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dernem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04920" y="1273320"/>
            <a:ext cx="6481440" cy="5015880"/>
            <a:chOff x="1204920" y="1273320"/>
            <a:chExt cx="6481440" cy="5015880"/>
          </a:xfrm>
        </p:grpSpPr>
        <p:sp>
          <p:nvSpPr>
            <p:cNvPr id="248" name=""/>
            <p:cNvSpPr/>
            <p:nvPr/>
          </p:nvSpPr>
          <p:spPr>
            <a:xfrm>
              <a:off x="2207880" y="1750320"/>
              <a:ext cx="4376880" cy="41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87480" y="3717720"/>
              <a:ext cx="5005800" cy="168840"/>
              <a:chOff x="1887480" y="3717720"/>
              <a:chExt cx="5005800" cy="168840"/>
            </a:xfrm>
          </p:grpSpPr>
          <p:sp>
            <p:nvSpPr>
              <p:cNvPr id="250" name=""/>
              <p:cNvSpPr/>
              <p:nvPr/>
            </p:nvSpPr>
            <p:spPr>
              <a:xfrm>
                <a:off x="1887480" y="3792600"/>
                <a:ext cx="5005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7480" y="3717720"/>
                <a:ext cx="115200" cy="167760"/>
              </a:xfrm>
              <a:custGeom>
                <a:avLst/>
                <a:gdLst/>
                <a:ahLst/>
                <a:rect l="l" t="t" r="r" b="b"/>
                <a:pathLst>
                  <a:path w="166" h="229">
                    <a:moveTo>
                      <a:pt x="166" y="0"/>
                    </a:moveTo>
                    <a:lnTo>
                      <a:pt x="0" y="116"/>
                    </a:lnTo>
                    <a:lnTo>
                      <a:pt x="166" y="2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76280" y="3719160"/>
                <a:ext cx="116640" cy="1674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0" y="229"/>
                    </a:moveTo>
                    <a:lnTo>
                      <a:pt x="167" y="114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307760" y="1551240"/>
              <a:ext cx="188640" cy="4498920"/>
              <a:chOff x="4307760" y="1551240"/>
              <a:chExt cx="188640" cy="4498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385520" y="1551240"/>
                <a:ext cx="32040" cy="4498920"/>
              </a:xfrm>
              <a:custGeom>
                <a:avLst/>
                <a:gdLst/>
                <a:ahLst/>
                <a:rect l="l" t="t" r="r" b="b"/>
                <a:pathLst>
                  <a:path w="46" h="6110">
                    <a:moveTo>
                      <a:pt x="15" y="6110"/>
                    </a:moveTo>
                    <a:lnTo>
                      <a:pt x="46" y="611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15" y="6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6040" y="5942520"/>
                <a:ext cx="180360" cy="107280"/>
              </a:xfrm>
              <a:custGeom>
                <a:avLst/>
                <a:gdLst/>
                <a:ahLst/>
                <a:rect l="l" t="t" r="r" b="b"/>
                <a:pathLst>
                  <a:path w="259" h="147">
                    <a:moveTo>
                      <a:pt x="0" y="0"/>
                    </a:moveTo>
                    <a:lnTo>
                      <a:pt x="130" y="147"/>
                    </a:lnTo>
                    <a:lnTo>
                      <a:pt x="259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7760" y="1551240"/>
                <a:ext cx="178920" cy="109080"/>
              </a:xfrm>
              <a:custGeom>
                <a:avLst/>
                <a:gdLst/>
                <a:ahLst/>
                <a:rect l="l" t="t" r="r" b="b"/>
                <a:pathLst>
                  <a:path w="258" h="147">
                    <a:moveTo>
                      <a:pt x="258" y="147"/>
                    </a:moveTo>
                    <a:lnTo>
                      <a:pt x="128" y="0"/>
                    </a:lnTo>
                    <a:lnTo>
                      <a:pt x="0" y="1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833560" y="2343960"/>
              <a:ext cx="3108240" cy="2904840"/>
              <a:chOff x="2833560" y="2343960"/>
              <a:chExt cx="3108240" cy="290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833560" y="3135960"/>
                <a:ext cx="2259720" cy="2112840"/>
                <a:chOff x="2833560" y="3135960"/>
                <a:chExt cx="2259720" cy="2112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33560" y="524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2"/>
                      </a:move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4360" y="5231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56960" y="5221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6680" y="5211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9280" y="5198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90440" y="519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1600" y="5178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12400" y="516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25000" y="515628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35080" y="514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47680" y="513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958480" y="512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69640" y="5115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80800" y="5104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93400" y="509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03120" y="508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15720" y="5072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25440" y="506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37680" y="505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49200" y="50414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60000" y="50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1160" y="501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83760" y="50090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93480" y="4998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05720" y="4986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17240" y="497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28400" y="4966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39200" y="495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51800" y="4945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61880" y="4935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74120" y="4923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5280" y="491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96440" y="49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7600" y="4892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18760" y="488088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9920" y="4871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240720" y="48618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51880" y="4849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3400" y="4839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75640" y="48294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5360" y="481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7960" y="48070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09120" y="479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19920" y="478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31440" y="477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43680" y="476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53400" y="475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6000" y="474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377160" y="473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88320" y="4723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99480" y="4713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1720" y="47026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21440" y="4692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34040" y="46807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4120" y="4670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56720" y="465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7520" y="4649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78680" y="463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89840" y="4629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02440" y="46170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12160" y="460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24760" y="45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35920" y="4586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546720" y="4574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7880" y="456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70480" y="4554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0200" y="454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92800" y="453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3960" y="452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13680" y="451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26280" y="4501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37440" y="449064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48240" y="448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59400" y="4470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670920" y="4458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81720" y="4449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94320" y="4437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04040" y="442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16640" y="44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27440" y="4406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738960" y="439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49760" y="43848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2360" y="4374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72440" y="436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84680" y="43524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795840" y="4343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07000" y="4331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18160" y="4321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30760" y="431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0480" y="4300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52720" y="428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4240" y="42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75040" y="426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86200" y="4258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897360" y="4248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908520" y="42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20760" y="422532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30480" y="421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43080" y="42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954240" y="4194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65760" y="418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76560" y="41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87720" y="41623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98880" y="415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10040" y="414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22280" y="4131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2360" y="4120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4960" y="4109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055760" y="410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066920" y="408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78080" y="4078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089240" y="406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0400" y="4057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13000" y="4046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122720" y="40356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35320" y="4025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46480" y="4015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7280" y="40032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168440" y="399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81040" y="398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90760" y="3972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03360" y="396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14520" y="3951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25680" y="3939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36480" y="3931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9080" y="3919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58800" y="3908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271760" y="38973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82560" y="3888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93720" y="387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04880" y="3866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316040" y="38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27200" y="3845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339800" y="3834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49520" y="3825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61760" y="38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373280" y="380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82640" y="3792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5240" y="3782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06400" y="3772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1756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8720" y="3751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41320" y="3739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1040" y="3729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3280" y="3719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4440" y="3708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85600" y="36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96760" y="36867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09360" y="3676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19080" y="3666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31320" y="36543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41400" y="3645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4000" y="3633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64800" y="3623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5960" y="3612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87120" y="3602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599720" y="359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09440" y="35805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040" y="3570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3200" y="3560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44000" y="35481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55520" y="353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67760" y="3527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7480" y="35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90080" y="3507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701240" y="3496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12400" y="348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23560" y="3476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4720" y="34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45520" y="345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57040" y="344376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67840" y="3433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9000" y="3422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91600" y="341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1320" y="3402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13920" y="3390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25080" y="33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36240" y="3369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47040" y="3359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9640" y="334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720" y="33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82320" y="3327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93120" y="3317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04280" y="330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15440" y="3296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8040" y="3284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7760" y="32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50360" y="3264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61520" y="3253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72320" y="3241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83480" y="32317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94640" y="3221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05800" y="3210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18400" y="31993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028120" y="31903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040360" y="3178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051880" y="316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63040" y="3157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73840" y="3147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86440" y="3135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5096520" y="3125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08760" y="31154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19920" y="3105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31080" y="3093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42240" y="3084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53040" y="3074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64560" y="3062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75720" y="305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86520" y="3041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8040" y="3031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10280" y="3021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20000" y="30106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32600" y="2999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43760" y="2988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54920" y="29782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66080" y="2968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78320" y="2956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8040" y="2947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00640" y="2935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11800" y="2925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22960" y="2915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34120" y="2904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46360" y="289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56440" y="2882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69040" y="2872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9840" y="2862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91000" y="2850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2520" y="2841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3320" y="282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4480" y="281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7080" y="2809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46800" y="27986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59400" y="2787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27766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81360" y="2766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92520" y="27561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05120" y="27442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14840" y="2735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26000" y="272376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2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38600" y="271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48320" y="270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0560" y="2692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2080" y="268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3240" y="267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94040" y="2661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06640" y="26499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16360" y="2639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29320" y="2629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38680" y="26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51280" y="2607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2080" y="259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3600" y="258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84760" y="2576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7360" y="2566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07080" y="25560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9320" y="2544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30480" y="25336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1640" y="2523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800" y="2513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5400" y="2501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75120" y="2492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87360" y="2480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98880" y="2470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10040" y="2459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20840" y="2449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32000" y="24379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43160" y="2427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5760" y="2417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5480" y="24069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78080" y="2395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88880" y="2386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00040" y="23745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11560" y="2364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22360" y="23540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33520" y="2343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46160" y="2352600"/>
              <a:ext cx="3107880" cy="2905200"/>
              <a:chOff x="2846160" y="2352600"/>
              <a:chExt cx="3107880" cy="290520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2846160" y="2352600"/>
                <a:ext cx="2259720" cy="2112480"/>
                <a:chOff x="2846160" y="2352600"/>
                <a:chExt cx="2259720" cy="2112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846160" y="235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856960" y="236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8120" y="2373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79280" y="238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891880" y="239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01600" y="2404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914200" y="241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5000" y="242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6160" y="243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47680" y="2446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59920" y="245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69640" y="2468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2240" y="2479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93400" y="2489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04200" y="2501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5720" y="2509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26880" y="252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37680" y="253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50280" y="2542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60000" y="2552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2600" y="25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3760" y="257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94920" y="258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05720" y="259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18320" y="26056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8400" y="2616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41000" y="262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51800" y="263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2960" y="264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74120" y="2658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86720" y="26704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96440" y="267912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09040" y="269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8760" y="2701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29920" y="27115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42160" y="2721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51880" y="2732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4480" y="274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5640" y="275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6800" y="276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97960" y="277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10560" y="278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319920" y="2795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32520" y="28076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43680" y="2817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55200" y="282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66000" y="2838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78600" y="285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88320" y="2858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00920" y="2871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11720" y="28810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23240" y="28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34040" y="290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45200" y="29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56720" y="292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68960" y="2934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8680" y="294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91280" y="29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502440" y="2964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13240" y="2976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24760" y="298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537000" y="2997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46720" y="3007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559320" y="3019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570480" y="30283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581640" y="304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592800" y="3050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05040" y="3060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614760" y="30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626280" y="3081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38520" y="3093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48240" y="310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660840" y="3113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670560" y="312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83160" y="313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694320" y="3144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5480" y="315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16640" y="316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29240" y="3177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8960" y="3187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51200" y="319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762360" y="3207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773520" y="321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784680" y="3230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97280" y="324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07000" y="3250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19600" y="3262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30760" y="32727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41560" y="32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52720" y="3293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64240" y="33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75040" y="331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87640" y="3325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97360" y="333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09960" y="33465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20760" y="3356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932280" y="3368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43080" y="3377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955680" y="3389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5760" y="3399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78000" y="3411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88800" y="34200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998880" y="34300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011480" y="3442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22280" y="3450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33800" y="3462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44960" y="3472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57560" y="34833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6920" y="349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079520" y="3505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9240" y="351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101840" y="352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13000" y="3536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23800" y="354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135320" y="3556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47560" y="356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57280" y="357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69880" y="35892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81040" y="3599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92200" y="361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03360" y="362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15600" y="3632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25680" y="364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38280" y="3654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249080" y="3663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260240" y="367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71400" y="3684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284000" y="3695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293720" y="370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06320" y="3717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316040" y="3727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28280" y="3738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39800" y="3748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35060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361760" y="3768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374360" y="3780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384080" y="37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395240" y="37998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7840" y="3811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17560" y="382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29800" y="38322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1320" y="384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52120" y="385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63280" y="3864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475880" y="387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5600" y="388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98200" y="3897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09360" y="3906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20520" y="3917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31320" y="3927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542840" y="39384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554000" y="394848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66600" y="396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75960" y="39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88560" y="39808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99720" y="3991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610880" y="40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622040" y="4011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634640" y="4023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644000" y="403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56600" y="4044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667760" y="4054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678920" y="406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90080" y="4076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02680" y="4087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12400" y="4097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24640" y="410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34720" y="4118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47320" y="41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58120" y="4140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767840" y="41486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0440" y="4160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91600" y="4170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802760" y="41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813560" y="419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826520" y="4203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36240" y="4213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48840" y="4223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59640" y="4234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70800" y="424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82320" y="42548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94560" y="4266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904280" y="4276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16880" y="42872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928040" y="4297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938840" y="4309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50360" y="4319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1160" y="4330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72320" y="43401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984920" y="435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994640" y="4360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07240" y="4372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18400" y="438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29560" y="4393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40360" y="4403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52960" y="441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63040" y="442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75280" y="4435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86440" y="4446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97600" y="445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5108760" y="4467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1360" y="447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31080" y="4489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3680" y="4499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54840" y="451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64560" y="4520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76800" y="45320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86520" y="4540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99120" y="4552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10280" y="4562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1440" y="4573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2600" y="458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44840" y="45950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54560" y="46040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7160" y="4615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78320" y="4626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89840" y="4636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00640" y="4646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13240" y="465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2960" y="4668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5560" y="4679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46360" y="4689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57880" y="4701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69040" y="4709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9840" y="4722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91000" y="4732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3600" y="47422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4752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25920" y="4764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7080" y="4774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47880" y="4785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9400" y="4795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1640" y="4807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81360" y="4816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93960" y="4827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05120" y="4838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16280" y="484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7440" y="4858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38600" y="48693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49760" y="4880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60560" y="488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73160" y="4901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82880" y="491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95480" y="492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06640" y="493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7800" y="4944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8960" y="495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40120" y="49647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1280" y="4975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63880" y="4986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73600" y="4995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85840" y="5007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7360" y="5018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08160" y="5028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19320" y="5038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1920" y="5050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41640" y="505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53880" y="5070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5400" y="5081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76200" y="5091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787360" y="5101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99960" y="511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09680" y="5123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22280" y="5133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32000" y="5144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44600" y="5156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55400" y="5165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6920" y="5176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8080" y="5187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90680" y="51976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00040" y="5207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12640" y="5219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23800" y="523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33520" y="5238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46120" y="5250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66520" y="4116960"/>
              <a:ext cx="11127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4047840"/>
              <a:ext cx="114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PRODUC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2480" y="5040360"/>
              <a:ext cx="143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840" y="507564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STUUR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6240" y="5051880"/>
              <a:ext cx="107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71440" y="5087520"/>
              <a:ext cx="138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ORDIN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02280" y="4111200"/>
              <a:ext cx="10249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3840" y="4063680"/>
              <a:ext cx="125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NTROLEU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55120" y="3150720"/>
              <a:ext cx="1614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67800" y="3186000"/>
              <a:ext cx="1184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TIMUL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91040" y="2184840"/>
              <a:ext cx="1204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7440" y="222012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EN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88840" y="2194920"/>
              <a:ext cx="1362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9840" y="2206800"/>
              <a:ext cx="111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INNOV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200" y="3115800"/>
              <a:ext cx="1255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78880" y="320976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MIDDELA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12840" y="6024240"/>
              <a:ext cx="1107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240" y="60595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Beheers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74280" y="3663360"/>
              <a:ext cx="71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73640" y="3698640"/>
              <a:ext cx="46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4920" y="3641400"/>
              <a:ext cx="6825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520" y="367668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8880" y="1273320"/>
              <a:ext cx="10764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14360" y="1308600"/>
              <a:ext cx="78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riëntatie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The Power of Now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b9efee"/>
                </a:solidFill>
                <a:latin typeface="Garamond"/>
              </a:rPr>
              <a:t>Pre-Start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Warming-Up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St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an de marath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A plan is a plan is a plan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Goede voorbereiding is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Kijk op :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www.raboban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ww.kv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De groep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en groep is nog geen team 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 FUNC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ie-secretar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rketing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koop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soneels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nancieel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ductie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Focus ,  Daniel San …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et Program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elko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 is een CC en hoe werkt dat 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oepen ??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 Start …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fsluit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wil jij gaan ervaren, doen en leren in je College Company 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690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2169" fill="hold"/>
                                        <p:tgtEl>
                                          <p:spTgt spid="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efening Baart Kuns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et Produc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Mag ook een dienst zijn 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oe en waarin wil jij je ontwikkelen ?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mpetenties ??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Het Proces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pstarten : Product bedenken/ Functies verdel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ndernemingsplan mak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nkopen/Produc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erkop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fsluiten/Liquidati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en laatste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Ruzie ??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Wrijving geeft warmt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is een College Company en hoe werkt dat ?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Proces of Product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twikkel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5054760"/>
            <a:ext cx="447480" cy="1650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9792800">
            <a:off x="2678040" y="446868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9792800">
            <a:off x="5111280" y="2868120"/>
            <a:ext cx="286092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792800">
            <a:off x="3835080" y="3723840"/>
            <a:ext cx="28605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9792800">
            <a:off x="6281640" y="2130120"/>
            <a:ext cx="2862360" cy="4507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9792800">
            <a:off x="1411200" y="530064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1460520"/>
            <a:ext cx="1144800" cy="1155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480" y="5243400"/>
            <a:ext cx="2014560" cy="1155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7880" y="5502240"/>
            <a:ext cx="166680" cy="24768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20" y="0"/>
                </a:moveTo>
                <a:lnTo>
                  <a:pt x="40" y="128"/>
                </a:lnTo>
                <a:lnTo>
                  <a:pt x="0" y="168"/>
                </a:ln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53320" y="1990800"/>
            <a:ext cx="277920" cy="366480"/>
          </a:xfrm>
          <a:custGeom>
            <a:avLst/>
            <a:gdLst/>
            <a:ahLst/>
            <a:rect l="l" t="t" r="r" b="b"/>
            <a:pathLst>
              <a:path w="200" h="248">
                <a:moveTo>
                  <a:pt x="0" y="248"/>
                </a:moveTo>
                <a:lnTo>
                  <a:pt x="120" y="80"/>
                </a:lnTo>
                <a:lnTo>
                  <a:pt x="200" y="0"/>
                </a:lnTo>
              </a:path>
            </a:pathLst>
          </a:custGeom>
          <a:noFill/>
          <a:ln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797960" y="2297160"/>
            <a:ext cx="188640" cy="47520"/>
          </a:xfrm>
          <a:prstGeom prst="line">
            <a:avLst/>
          </a:prstGeom>
          <a:ln w="25560">
            <a:solidFill>
              <a:srgbClr val="6ab47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9160" y="2340000"/>
            <a:ext cx="48103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rofessionel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43480" y="5168880"/>
            <a:ext cx="45907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6ab475"/>
                </a:solidFill>
                <a:latin typeface="Verdana"/>
              </a:rPr>
              <a:t>Persoonlijk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085840"/>
            <a:ext cx="9143640" cy="4087440"/>
            <a:chOff x="0" y="2085840"/>
            <a:chExt cx="9143640" cy="4087440"/>
          </a:xfrm>
        </p:grpSpPr>
        <p:grpSp>
          <p:nvGrpSpPr>
            <p:cNvPr id="908" name=""/>
            <p:cNvGrpSpPr/>
            <p:nvPr/>
          </p:nvGrpSpPr>
          <p:grpSpPr>
            <a:xfrm>
              <a:off x="0" y="2085840"/>
              <a:ext cx="5506560" cy="1142640"/>
              <a:chOff x="0" y="2085840"/>
              <a:chExt cx="5506560" cy="114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085840"/>
                <a:ext cx="550656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5760" y="2352240"/>
                <a:ext cx="473724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ff3300"/>
                    </a:solidFill>
                    <a:latin typeface="Verdana"/>
                  </a:rPr>
                  <a:t>Professionele Expertise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260240" y="5030640"/>
              <a:ext cx="4883400" cy="1142640"/>
              <a:chOff x="4260240" y="5030640"/>
              <a:chExt cx="488340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4260240" y="5030640"/>
                <a:ext cx="488340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94880" y="5167440"/>
                <a:ext cx="47484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6ab475"/>
                    </a:solidFill>
                    <a:latin typeface="Verdana"/>
                  </a:rPr>
                  <a:t>Persoonlijke Effectiviteit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ces volgens J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n een idee via een marktonderzoek komen tot een product waar een markt voor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ondernemingsplan, halfjaarverslag en jaarverslag schrijv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zakelijke bankrekening openen en via internet banki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 basis van het ondernemingplan aandelen verkop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rantwoording afleggen aan aandeelhouders in aandeelhoudersvergaderin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es verdelen en verantwoordelijkheid nemen voor een bepaalde afdel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oneringsgesprekken houd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inkoop, productie, marktbewerking en verkoop in Nederland of daarbuiten regel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administratie vo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onbelasting, BTW en vennootschapbelasting afdragen en de aandeelhouders terugbetal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Geld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Aandele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Ik kan het niet allee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54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71308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egeleider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geleidend Doc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rijfsbegele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ncieel Advise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am Commercieel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 – Coördinator  Jong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En nu …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14262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Maak een groep of zoek je groep op …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e ziet dat eruit 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Bestorm je herse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enk een product 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f dienst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ijna Alles mag en kan ….  No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r is een lijst …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8880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heb je nodig ?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Vraag erom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Niemand de deur uit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 . Tot de groep samengesteld is.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2. Tot er een eerste productidee is met werkafsprake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11.30 :  Fijne Vakanti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598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Ondernemers zijn net uien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Ze hebben lagen …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et “ UI “ Mode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e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ana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entrepren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Jong 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ndelijke stichting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00:14Z</dcterms:created>
  <dc:creator>AAk</dc:creator>
  <dc:description/>
  <dc:language>en-US</dc:language>
  <cp:lastModifiedBy>AAk</cp:lastModifiedBy>
  <dcterms:modified xsi:type="dcterms:W3CDTF">2010-06-29T08:36:01Z</dcterms:modified>
  <cp:revision>19</cp:revision>
  <dc:subject/>
  <dc:title>Wat is een College Company en hoe werkt dat ? </dc:title>
</cp:coreProperties>
</file>